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06F9B-8AA2-443D-87D6-CC59DED616F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261D3-542B-47B4-A275-6EEB92E909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3"/>
          <p:cNvSpPr/>
          <p:nvPr/>
        </p:nvSpPr>
        <p:spPr>
          <a:xfrm>
            <a:off x="4278240" y="10156680"/>
            <a:ext cx="326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C31D9-6759-4523-AEDD-C4050E8395A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695-29BC-4067-BD47-27A3B4F9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0EA-576D-42EF-A282-3D35CE9C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0BD9-F9C5-45F3-B5B5-79DF46CD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6A5-37EB-4F48-9708-65D2B9DF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03C6-CF62-4D87-BA4A-2E7911C5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0E2-3753-4B61-977E-0943A21A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76E-EA66-4DC3-98B9-DF74F338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A90D-ED8A-4416-B47C-880FA9D2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BBF-52F5-4BF9-B6D9-26B056A1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3C9C-6EA8-4EA4-8E60-F895D35C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96F8-FFC7-4AC5-846F-955E7B74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04C-43E1-46A8-B072-087641DA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600C3C-FBBB-4611-8E46-10F64F0283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03280" y="1767960"/>
            <a:ext cx="905832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7" descr=""/>
          <p:cNvPicPr/>
          <p:nvPr/>
        </p:nvPicPr>
        <p:blipFill>
          <a:blip r:embed="rId1"/>
          <a:stretch/>
        </p:blipFill>
        <p:spPr>
          <a:xfrm>
            <a:off x="1254240" y="2422440"/>
            <a:ext cx="5500440" cy="2997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77904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ой схеме придумайте текст задачи (устно) и запишите решение в тетрад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30 граммов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969240" y="4494240"/>
            <a:ext cx="28922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5652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иготовления раствора необходимо смешать 2 части воды и 1 часть концентрата. Масса раствора 330 г. Сколько воды потребуется его приготовления?</a:t>
            </a: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2200" y="3493800"/>
            <a:ext cx="89154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2+1=3(ч.) – количество ча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330:3=110(г) – одна ча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110*2=220(г) – количество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22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969240" y="4851360"/>
            <a:ext cx="2681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5897520" y="3994200"/>
            <a:ext cx="3527640" cy="3249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672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Варенье из огурцов и крыжовника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39680" y="2279520"/>
            <a:ext cx="8415360" cy="18576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50000"/>
          </a:bodyPr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того варенья берут 2 части огурцов,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и крыжовника и 4 части сахара. Сколь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собрать крыжовника, если у нас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лограмма сахара? Составить схему к задач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й ещё в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 можно было бы задать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5832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считать количество продукт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02920" y="1279080"/>
            <a:ext cx="4452840" cy="4861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5000"/>
          </a:bodyPr>
          <a:p>
            <a:pPr marL="291600" indent="-2916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325840" y="1279440"/>
            <a:ext cx="445284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84000"/>
          </a:bodyPr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 12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?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чет количества продукт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1279080"/>
            <a:ext cx="445320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7000"/>
          </a:bodyPr>
          <a:p>
            <a:pPr marL="263880" indent="-2638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Кофе-брейк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2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нан                      8ч 2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фе                       2 ч 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1ч 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25840" y="1279080"/>
            <a:ext cx="44528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78000"/>
          </a:bodyPr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Трайфл «Фруктовый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анильный сахар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локо                   5ч 1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                      2ч 5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йца                       4ч 1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укты                  12ч 30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сквит                   3ч  7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роп                      1 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харная пудра     1ч 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ивки                     1ч 25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576360" y="1152360"/>
            <a:ext cx="928836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идумать или найти интересный рецепт, составить задачу, схему, красочно оформить ее условие и реш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5826240" y="4280040"/>
            <a:ext cx="3409920" cy="2519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576360" y="3298680"/>
            <a:ext cx="935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t">
            <a:noAutofit/>
          </a:bodyPr>
          <a:p>
            <a:pPr marL="343080" indent="-333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3612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квенный диктан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5480" y="2208240"/>
            <a:ext cx="905832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для определения време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ий бассейн для рыб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ередвижения Бабы Яг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 килограмм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яя буква в слове «ночь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968400" y="493560"/>
            <a:ext cx="8064360" cy="21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Задачи на части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68400" y="3422520"/>
            <a:ext cx="3338640" cy="3003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5327640" y="4751280"/>
            <a:ext cx="4535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440" y="56520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825480" y="2708280"/>
            <a:ext cx="957744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помнить алгорит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ровка решения задач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знаний на практик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3840" y="422280"/>
            <a:ext cx="905796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3840" y="1636200"/>
            <a:ext cx="905796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важное условие должно выполняться в задачах на част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ервым делом необходимо найти при     решении задачи на ча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алгоритм решения задачи на ч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решения задач на ча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2560" y="213624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одной ча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ение тех частей, о               которых спрашивается в задаче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79000"/>
            <a:ext cx="9058320" cy="124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найка разделил 12 орехов на 2 равные части - для себя и Знай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3280" y="1279080"/>
            <a:ext cx="9577440" cy="55659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в этом случае пришлось орехов на одну час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 На сколько равных частей нужно разделить 12 орех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на одну часть приходилось 2 орех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 В одной части 3 ореха. Сколько частей приходи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орех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Сколько орехов будет приходиться на 1 часть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12 орехов Незнайка поделит на 3  равные ча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2 равных час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5254560" y="3708360"/>
            <a:ext cx="4183200" cy="32083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70812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</a:t>
            </a:r>
            <a:br>
              <a:rPr sz="72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3800" y="1422000"/>
            <a:ext cx="9057960" cy="5708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 algn="just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ля приготовления рисовой каши надо взять 2 части риса, 3 части молока и 5 частей воды. Сколько молока и сколько воды понадобится, если взять 220 г рис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825120" y="1779120"/>
            <a:ext cx="89866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 Какова масса одной част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20 : 2 = 11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Сколько граммов молока понадоби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3 = 33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 Сколько граммов воды понадобитс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10 ∙ 5 = 550 (г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330 г, 550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11:02:32Z</dcterms:created>
  <dc:creator>user</dc:creator>
  <dc:description/>
  <dc:language>en-US</dc:language>
  <cp:lastModifiedBy>user</cp:lastModifiedBy>
  <dcterms:modified xsi:type="dcterms:W3CDTF">2017-12-20T23:46:10Z</dcterms:modified>
  <cp:revision>29</cp:revision>
  <dc:subject/>
  <dc:title>Слайд 1</dc:title>
</cp:coreProperties>
</file>